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5C1-3760-481F-867C-795B54C7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7D4-01A3-43BC-A603-EE0E2F93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63F-D736-472B-B543-4FB53B2A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522-2F5A-4DF4-8D13-C3EE21E7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6322-233F-4DDC-AD51-249D87DF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8558-3D4B-4ACA-9CC7-8D3CD8C5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5782-94BB-4AD3-BFC8-3CD70016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DD43-A5A5-4952-ABDA-D6A90AAA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6D51-750A-4A36-9208-4F6EED3F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80A0-1882-4DAA-8B58-E621C2A1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C95D-1842-428D-AB9F-19CC15FB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27D-6F9F-45E9-BFC5-5093D559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9775-568C-4C16-83EC-3820940B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64C1-8FE7-42FB-A2B9-7F5D9CBB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BD34-BA30-461C-91E7-7B56197E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C344-77FB-44D4-8DD7-A3A51EDE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DB2D-B092-4F23-AC42-AF728478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D70-8FD0-4F66-B477-8A29891C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7A8-C465-4BA4-8334-09340475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800-10FB-42E5-8448-A08C2A5D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8F7-A5A4-4ACF-BD0F-6C07537D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423-1F87-48E0-AFB6-36B12181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E93-86BC-4653-B5F5-94862FA0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EE9-D529-429C-9DFD-F704CDBD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961D-063D-4193-8EC1-909E0B1A3B7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A773-465F-4DF7-9AF4-0C1B214B6FB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-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surname of one of the most famous British Prime minister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“The Iron Lady”)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646080" y="4221720"/>
            <a:ext cx="275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atcher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6:19:0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